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CCCD76-DB61-434B-9834-EF32BDC9CB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0A15AC-87C8-4046-BFE8-D2E21C323A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390225-1B0B-414E-B1C3-399C3790C2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E1E7B3-0F65-4337-89E3-563C33CC28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8DD019-B745-4233-89EA-8DD12860BA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AD6872-AEA6-4069-91EF-ACB10AECCE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7BEA4A-92E2-44EB-8BE7-5465F264B4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B89D4B-3025-405A-9358-87BABA21C8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F558D7-8087-4F8B-A822-A341330ED0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E037EE-D9C4-40CF-8C9D-83EB1750B3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C25E33-E429-44F3-90D8-866C16C2B8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D4928-9982-4C05-8776-FA56993BD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BA245-D3AE-4FE8-A7F0-FEA34A5C2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C1E17-07F6-4538-B334-5740F490EC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7831A-9003-42B9-8002-E947E3E94A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B4F5E-29F8-40A0-86C6-F7986B4D97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FD878-1EC4-4684-AD24-03F8FE00E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00B21-A600-4B1D-BFCB-D05258B92D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FC364E-14A2-4DD7-B507-409523041A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ED3EDA-335A-4420-88E9-6B2764FB1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2AC24-41E6-41A4-96A0-C869F8594A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74237-4DB2-4120-A1EE-8642518E0B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BD210-369B-409E-8D07-F739E1732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825136-7AA5-43FB-9978-FF0DF281FFD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image" Target="../media/image17.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1"/>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5:55:27Z</dcterms:modified>
  <cp:revision>68</cp:revision>
  <dc:subject/>
  <dc:title>Profile</dc:title>
</cp:coreProperties>
</file>